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99E-941E-430D-873F-9F749FF5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8B3-0170-4A5C-A4A3-20374057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727-40A6-49DC-A4A4-3DCECA07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BB3-9ABB-495E-A95E-8BBDF03D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E2F2-6D50-46E5-9C78-2A158FF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2CC7-D249-47C7-AC5A-9ED4F7D2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03D9-6ED8-43B9-8447-9D9D2649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2FD8-EDE5-42CF-9ED7-9BB4C830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2C82-B7A4-4651-94FB-DC36F103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49DA-B9C9-4DB7-AACF-BF8C339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012-6618-4DD7-BEEE-1D32202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A0C-B88D-445F-9863-72296B7E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828A-C101-4913-B62D-85573C44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267-C631-4B94-BB30-6A08B7C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7666-0B98-43A1-AAD5-425B4E4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2DE6-B9D6-40BE-9C59-5DD7AFC5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D79-DE5B-49B8-85B9-2268FB69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0F6-4788-4D42-A60C-0DE7DD0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120-0496-4022-B345-7AE6C02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AA7-C5C4-49CC-B431-DB31CB4C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1DC-BA79-4EFE-961A-6011E194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156-7FCE-4653-830F-1A2580C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CCE-76F2-4FBA-B57B-E561252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E21-CD08-4609-9513-70899E5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1A0E-F61D-47BF-93A6-D73212DD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A22-E982-4CCB-AA9F-53281155DB27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7913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te Fa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2600" y="2017800"/>
          <a:ext cx="7772400" cy="4567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State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t Physic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ography &amp; Clim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, Square miles, geographic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(general weather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ef Products and Natural Resourc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2133720"/>
          <a:ext cx="616752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61675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laces of intere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univers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e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of historical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Peo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ist (name, birth/death year, why they are famou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&amp; Fun Fac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 and/or trivia people should know (This information should not have already been mentioned in previous slid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y Visit/Live in My St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de the reader to visit or live in your state (essay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ibliography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4:54Z</dcterms:created>
  <dc:creator>Lupin Hill</dc:creator>
  <dc:description/>
  <dc:language>en-US</dc:language>
  <cp:lastModifiedBy>Lupin Hill</cp:lastModifiedBy>
  <dcterms:modified xsi:type="dcterms:W3CDTF">2010-11-10T16:55:05Z</dcterms:modified>
  <cp:revision>1</cp:revision>
  <dc:subject/>
  <dc:title>State</dc:title>
</cp:coreProperties>
</file>